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35CA-A262-47C7-929C-20B7530A23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экологически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5DC4-90A8-4DAF-8D3F-C869E886B15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клад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ене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F549-13B2-4FFB-A5E7-A94EAF340B13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пос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условия существования людей в населенных пунктах различных типов и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б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E76A-E6D8-41DF-8A94-6B9AA4E2D33D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жизнь человека в социально-культурн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DFA3-D178-46DA-9285-6BEED89E6A44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.Геккель,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C52E-824F-456B-9283-3A75DDDB2781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щая своей целью сохранение  жизни на Земл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A069-31A4-441F-AA38-CDDE00EDDAE5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истематическ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амфи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0578-EF44-45B0-AB72-1B231708FB65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иерархии жи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нд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я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леток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рганов и 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з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с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D25C-8E69-4DD6-9395-C00E16A14664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актори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лияние на организмы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33AC-389F-4EF9-B628-7C5AFE2193E2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ред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DD0F-94BA-4DF5-A8FE-59B39BCAF83B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общие экологически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эколог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D5E8-7CC1-459B-87BE-19E4A8FAFC0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но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экологические процессы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он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е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F1DA-5248-4CAB-AE93-FC89E08FADB8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B67-3FE3-4174-98EE-FAD0E778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F90-4373-4E19-949B-337A5F72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C01-02A9-4B67-974B-AD251609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476-9A3D-40C1-BFA8-3B8D3380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1D37-55D5-43F5-837D-62991EF5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1FA6-39BC-4A01-BF82-266DA648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9425-CD3E-46CA-A7C6-932A63C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5FE1-FAD5-4EF7-930F-03DC7B60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1BBF-2DAD-447F-9BDB-416E4E46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6051-7703-4557-8FB3-A5C5AA63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DCB7-F7B6-4872-8170-14046915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EE9-CB90-4C10-B6B8-07E2C19A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16FA-CACD-40FD-8333-4F9A1C06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1E0F-73E2-4FB7-BC58-0259501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1FEF-ABA2-4818-8140-AB195CAB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FC26-7A6F-41A7-8D50-6629122D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55FF-1BEB-4B98-8914-1BE236C5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94C-9D80-4D0E-8878-A893D828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1A2-6A43-4B21-8F6D-172D2037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795-755D-4059-8AF0-5E60C573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0BA-D85B-4BB5-9B82-42F94039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FE7-B5E7-40F3-AD3B-7C4D9FEA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924-ADB5-46ED-9EF2-CB6635F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461-928E-44A9-93E4-EEFF8548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DEE8-85F2-4992-9AB8-EADCD75DDF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097F-5F70-4ED0-8E71-F23B2094B0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Структура экологических зна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13" descr="GBI_1C37_006Nf"/>
          <p:cNvPicPr/>
          <p:nvPr/>
        </p:nvPicPr>
        <p:blipFill>
          <a:blip r:embed="rId1"/>
          <a:stretch/>
        </p:blipFill>
        <p:spPr>
          <a:xfrm>
            <a:off x="250920" y="3068640"/>
            <a:ext cx="273672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j0185197"/>
          <p:cNvPicPr/>
          <p:nvPr/>
        </p:nvPicPr>
        <p:blipFill>
          <a:blip r:embed="rId2"/>
          <a:stretch/>
        </p:blipFill>
        <p:spPr>
          <a:xfrm>
            <a:off x="2124000" y="4149720"/>
            <a:ext cx="287964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_genome"/>
          <p:cNvPicPr/>
          <p:nvPr/>
        </p:nvPicPr>
        <p:blipFill>
          <a:blip r:embed="rId1"/>
          <a:stretch/>
        </p:blipFill>
        <p:spPr>
          <a:xfrm>
            <a:off x="1187280" y="4394160"/>
            <a:ext cx="648036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>ppt.3dn.ru</dc:description>
  <dc:language>en-US</dc:language>
  <cp:lastModifiedBy>LEGION</cp:lastModifiedBy>
  <dcterms:modified xsi:type="dcterms:W3CDTF">2015-05-06T08:51:51Z</dcterms:modified>
  <cp:revision>10</cp:revision>
  <dc:subject/>
  <dc:title>Проблемы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5000000000001024140</vt:lpwstr>
  </property>
</Properties>
</file>